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969-6247-4C93-BC4D-D06DFB0C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70A-8848-4ABD-A47F-D24EAA49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AA3-45E3-4461-8BDE-A4CE7F85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F35-0B81-464E-BA0E-63D23DEA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007-F5A9-4033-BDEF-964A892F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22F-570C-4F09-8473-D302BB75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0A6-66A1-4156-B21E-CD439728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DE2-3BEC-4583-82DD-62A7A240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C68-1023-492F-9D98-23709BB3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15D-7B9A-4803-8D64-73887142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FF1-849A-4D29-A0D5-FA8B1B5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F2B-8085-43CB-B46B-08DEF64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D95E-403D-4DFD-9212-7E5EB8332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1219320"/>
            <a:ext cx="7086600" cy="37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7150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achael Mueller, Ella Loscalzo, &amp; Amber Bo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animals live in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adoptions do animals that live in the rainfores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ype of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you find a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00200" y="457200"/>
            <a:ext cx="58672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 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10280" y="3429000"/>
            <a:ext cx="1675080" cy="2371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400800" y="6248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 Bo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one geologic feature found in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inches a rain a year does the rainforest get p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you make from things found in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wo kinds of rainfore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676160" cy="169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5791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752480" y="685800"/>
            <a:ext cx="54864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K CIT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9718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iology the Dynamic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581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ttp:/mbgnet.mobot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4267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www.blueplanetbiomes.org/worldbio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385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ael Mu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opical rainforests are around the eq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forest are found on the coasts and arou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il in the rainforest is moist and doesn’t have a lot of nutr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6019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a Loscal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457200"/>
            <a:ext cx="57913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ological Featur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4800600"/>
            <a:ext cx="2514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erature and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in a rainforest ranges between 68 and 93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rain fall in a year is usually more than 100 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1722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la Loscal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lants – Maple Tree, Oak Tree, &amp; Birch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nimals – Rabbits, Deer, &amp;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5029200"/>
            <a:ext cx="1676160" cy="167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ael Mu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543800" y="152280"/>
            <a:ext cx="1327320" cy="152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3520" y="2362320"/>
            <a:ext cx="1317600" cy="1676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523880" y="380880"/>
            <a:ext cx="525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MPERATE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lants – Emergents, Ferns, &amp; Broad Leave Shr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nimals – Jaguar, Rodents,&amp; Mac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6172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ael Mu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803240" cy="2352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447560" cy="139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0720" y="2666880"/>
            <a:ext cx="2361960" cy="175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5800" y="4572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OPICAL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tes, earthworms, bacteria and fungi have adapted to decompose things very quickly before the nutrients are absorbed by the ground or washed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es on the bottom layer grow on the trees to get sunlight in the top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tter ants have adapted to climb on the vines and take down the leaves to there n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457200"/>
            <a:ext cx="7467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APTATIONS IN THE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095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a Loscal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4724280"/>
            <a:ext cx="12589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91520" y="4267080"/>
            <a:ext cx="1130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down trees to build houses and other buildings is one impact. So by stopping or slowing down the building process it will make the rainforest last lo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733920" cy="262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685800"/>
            <a:ext cx="825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MAN IMPACT ON THE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6095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 Bo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168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ercial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utting down trees to make paper and other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sing the plants found to make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ruit from the trees for food and other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6461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 Bo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47:15Z</dcterms:created>
  <dc:creator>xpstudent</dc:creator>
  <dc:description/>
  <dc:language>en-US</dc:language>
  <cp:lastModifiedBy>xpstudent</cp:lastModifiedBy>
  <dcterms:modified xsi:type="dcterms:W3CDTF">2010-10-28T12:20:40Z</dcterms:modified>
  <cp:revision>32</cp:revision>
  <dc:subject/>
  <dc:title>Slide 1</dc:title>
</cp:coreProperties>
</file>